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7C284-A053-4CD9-B9E0-2747413EA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2C5F5-5AA4-46A7-8D97-96489B1A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34579-5736-4922-BCE3-A6573F3A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B8795-FCB3-4477-A6E4-3AB7A3362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3C4C-7161-4C07-9140-3E53E01A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A126-6157-4F5C-A515-D4262C4D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61AF-3ED9-4B01-BBBE-2AB655BC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1765-53B4-4209-B587-A3FE741F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A813-391B-4E03-BAB3-A514CBF4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D574-2BB3-4C92-A7CE-A00DD26C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964D-138C-4932-8A25-7C888129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5C0CB-2D21-4987-862E-8EB674DC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6989-5566-477E-9D00-58EDE28A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FC1C-C998-4136-8734-C047234C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463E-851C-4257-8736-11C231E2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AE1A-A5A2-4A4E-A854-4577F8E2D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4987-5A96-461E-8295-525E513A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F087C-8AD0-4653-9F9B-070C2755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22500-9D82-4051-A2EE-A9B38C84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8A513-C3CC-4102-BEFB-5B9463B0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B074E-C13B-4430-A44F-DDACDC4E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6CCDA-7359-4A34-8037-D8CAA37E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D47F8-D112-45C5-B649-0DE3F83B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86029-1572-40C2-91FE-1C6DDD93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D731-FD6B-43D9-A941-FEAB76826C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386C-F7F6-4167-B531-58ABF1E824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omtel.cz/cz/?s=vyuka&amp;l=pred_detail&amp;kod=106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68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00000"/>
                </a:solidFill>
                <a:latin typeface="Arial"/>
              </a:rPr>
              <a:t>Multiplexní metod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16000" y="2205000"/>
            <a:ext cx="4895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Arial"/>
              </a:rPr>
              <a:t>X32TSS - Telekomunikační systémy a sítě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Seminární projek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Vypracovali: Zuzana Kút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Petr Votav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6.semestr 2005/200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DM- Wave Division multiplex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ívá posunutých vlnových dél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nosové médium- optické vlák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W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WDM (Density WDM)- rozestupy mezi kanály jednotky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WDM (Coarse WDM)- rozestupy mezi signály desítky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timalizace přenosové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lepší využití přenosových cest pracujeme s digitalizovaným a sdruženým signálem. Hovoříme o TDM+WD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EC9B2-9DD3-41ED-96E5-57EA568DA3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DM- Wave Division multiplex 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silovače sign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ektron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žitější zaříze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utnost převodu optického signálu na elektrický, oprava časování a tvar, převod zpět na optický sign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DFA (Erbium Doped Fiber Amplifier)- zesilovač na optické bázi (stimulovaná emis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→zesílení světelného tok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a: při 32 kanálovém provozu potřebujeme pouze 9 EDFA zesilovačů (1000 Km) oproti 288 elekronickým zesilovačů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12ABD-E74D-4C45-9E6B-B746C3E9AD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oucnost       optická vedení      W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soká přenosová rych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lehlivost a kvalita přeno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132000" y="4076640"/>
            <a:ext cx="2286000" cy="1600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627280" y="206064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76720" y="2060640"/>
            <a:ext cx="433440" cy="287280"/>
          </a:xfrm>
          <a:prstGeom prst="rightArrow">
            <a:avLst>
              <a:gd name="adj1" fmla="val 50000"/>
              <a:gd name="adj2" fmla="val 37719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BF951-B17A-49B0-8FDF-2B0542E126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droje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ni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voboda, J., a spol. : Telekomunikační technika II. díl, Přenos dat, spojovací a přenosové systémy, Odborné nakladatelství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t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Beneš, Praha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mtel : 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comtel.cz/cz/?s=vyuka&amp;l=pred_detail&amp;kod=10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BC7F8-5A4E-4919-A83F-71AA209BA9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rozdělení multiplex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DM – Frequency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ncip frekvenčního multiplex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- drátový stejnopásmový (různopásmový) prov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DM- Tim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ncip časového multiplex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DM- Cod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DM- Wav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05AB3-8E59-4EB1-84B8-5BF6CDA79B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 rozdělení multiplex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voj telekomunikačních služeb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→ zvyšování kapacity přenosových kaná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Možnosti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měna starých kabelů za nové s více žilami → neekonom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plex = lepší využití stávajících přenosových c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multiplex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vodov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ekvenční (F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vý (T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ódový (C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nový (W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0806E-1A5F-4610-99B8-3DA76604FF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DM – Frequency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ívá frekvenčně posunutých hovorových pásem (AM modul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ířka hovorového pásma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f = 31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dstupy pásem 900 Hz → šířka přenášeného pásma 40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bsazení frekvenčního pá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nalogie s radiovým signá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užití stíněných vodičů → na všech mohou být stejné frekv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spořádání přenosové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- drátové stejnopásm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- drátové různopásm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- drátov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A5338-97D8-4B75-B3DB-7AE63D7706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 frekvenčního multiple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01760" y="1341360"/>
            <a:ext cx="4821480" cy="525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A8770-F9D2-4A93-A476-02A7115C71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- drátový stejnopásmový (různopásmový) prov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987640" y="3716280"/>
            <a:ext cx="5905440" cy="2360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16000" y="220500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436572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24360" y="342900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04000" y="4437000"/>
            <a:ext cx="115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5472000" cy="474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E9653-1CE9-4BA8-9E30-B458F6C303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DM- Time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vé dělení kanál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→každý signál má přidělen určitý časový úsek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Úseku přiřadíme jeho okamžitou hodnotu v určitém čase (vzorko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zorkovací frekv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usí splňovat Shannon- Kotělnikovův teor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≥ 2*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 telefonní signál je 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= 80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CM 1.řá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praxi se TDM kombinuje s digitalizací signálu, tomu odpovídá PCM 1.řá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24873-83B8-443F-AC9E-E466BABB48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 časového multiple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71640" y="1413000"/>
          <a:ext cx="220320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3000"/>
                    <a:ext cx="220320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284720" y="2349360"/>
            <a:ext cx="4038480" cy="2810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76720" y="4797360"/>
            <a:ext cx="1944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ynchron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02880" y="263700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2880" y="306864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02880" y="3573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02880" y="4005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63960" y="263700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63960" y="306864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63960" y="3573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63960" y="4005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33040" y="1989000"/>
            <a:ext cx="1717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7960" y="1989000"/>
            <a:ext cx="1552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927F3-9E69-4D7F-824A-CF703F8016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DM- Code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ílčí přenosy jso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"zakódovány" do jediného sp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č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ého 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osu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ý účastník si z tohoto celk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kódu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co mu 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ísluší, pomocí kódu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ý z přenášených signálů používá jiný kód (pseudonásobnou sekvenc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a -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ysoká efektivnost vy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í dostupného frekvenčního pásma</a:t>
            </a:r>
            <a:r>
              <a:rPr b="1" i="1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25E8C-B357-4E94-8987-E7C80F9424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7:44:08Z</dcterms:created>
  <dc:creator>petr</dc:creator>
  <dc:description/>
  <dc:language>en-US</dc:language>
  <cp:lastModifiedBy>student</cp:lastModifiedBy>
  <dcterms:modified xsi:type="dcterms:W3CDTF">2006-05-23T11:52:58Z</dcterms:modified>
  <cp:revision>34</cp:revision>
  <dc:subject/>
  <dc:title>Multiplexní metody</dc:title>
</cp:coreProperties>
</file>