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5321F-5683-472F-A802-2AD1D19F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E7D5B-6E04-468D-90FA-3CBC5127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29326-851C-4A06-A45E-42D1A930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CFFE2-36A2-4869-AF31-CD89B991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9A49-EA15-4F64-80EB-C72FAF64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982C-D943-4425-BD0B-C09C1042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E4F5-CB9A-4512-932D-A696B1DD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D427-3CAB-4EBB-8055-C38DDAFC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3313-155C-46B0-AC59-F99D3C72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D9EE-84B0-4C15-845F-A9E77A14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3326-B1FD-453B-86C2-D7DC079B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44F9E-AA60-44C3-81ED-A3F5DD92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EC42-2721-4F02-9653-C82B667E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7A38-DF70-4CB3-A532-111EC0EA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B78C-8DDB-4029-ADD3-F300E34D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8F35-0AD9-48AB-AF9C-0D8C46AB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88AC-CF83-4676-81E4-7C0EEA90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A6F02-F36C-4772-8287-5B61ADF4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CDC53-BE9D-4971-87F5-47AE65D0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8DFD9-C807-46E1-A585-1AB75ED8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AD1E0-E601-4237-8AA4-643EB22E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EDBEF-8A8C-4517-8A4B-23CC8806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C700-12CE-454F-B176-08607496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0001E-F508-411E-9042-073991D2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C468-1A43-4A11-BA86-480268E078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BB76-DA25-4758-A68E-F4BDD8A0CF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mtel.cz/cz/?s=vyuka&amp;l=pred_detail&amp;kod=106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6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Multiplexní metod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2205000"/>
            <a:ext cx="4895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Arial"/>
              </a:rPr>
              <a:t>X32TSS - Telekomunikační systémy a sít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eminární projek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Vypracovali: Zuzana Kút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Petr Vota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6.semestr 2005/20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posunutých vlnových dél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nosové médium- optick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WDM (Density WDM)- rozestupy mezi kanály jedno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WDM (Coarse WDM)- rozestupy mezi signály desí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alizace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epší využití přenosových cest pracujeme s digitalizovaným a sdruženým signálem. Hovoříme o TDM+WD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CADD-6EE5-4B5C-A324-432A3E4CFB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ilovače sign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zaříz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ost převodu optického signálu na elektrický, oprava časování a tvar, převod zpět na optický sig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FA (Erbium Doped Fiber Amplifier)- zesilovač na optické bázi (stimulovaná emi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zesílení světelného to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: při 32 kanálovém provozu potřebujeme pouze 9 EDFA zesilovačů (1000 Km) oproti 288 elekronickým zesilovač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78F6F-6880-44A6-AD9F-3F64B9C198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nost       optická vedení     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přenosová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hlivost a kvalita přen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27280" y="2060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206064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A396F-3CD5-4A4E-9378-E5C5CC900C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oboda, J., a spol. : Telekomunikační technika II. díl, Přenos dat, spojovací a přenosové systémy, Odborné nakladatelství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t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Beneš, Praha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tel :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mtel.cz/cz/?s=vyuka&amp;l=pred_detail&amp;kod=10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1B1D5-C9FE-4FDC-B74C-947D77DBF0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DM- Wav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E4C58-2E55-4F5D-A7C2-230A3279FB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telekomunikačních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zvyšování kapacity přenosových kaná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ožnosti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měna starých kabelů za nové s více žilami → neekonom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x = lepší využití stávajících přenosových c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multiplex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odov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ekvenční (F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(T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ódový (C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nový (W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8033E-B094-4E21-BCBB-84E19F8889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frekvenčně posunutých hovorových pásem (AM modul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ířka hovorového pásma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 = 31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dstupy pásem 900 Hz → šířka přenášeného pásma 4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bsazení frekvenčního pá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nalogie s radiovým sign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užití stíněných vodičů → na všech mohou být stejné frek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spořádání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stej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růz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- drátov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57C37-3810-4407-968C-9A332BCB3D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1760" y="1341360"/>
            <a:ext cx="482148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D9110-7373-4FB8-97EA-B2409AFE5E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5905440" cy="2360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2205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36572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429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4437000"/>
            <a:ext cx="115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5472000" cy="47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28582-ABB0-465A-8D8C-0E0812707C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é dělení kaná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každý signál má přidělen určitý časový úse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Úseku přiřadíme jeho okamžitou hodnotu v určitém čase (vzork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zorkovací frek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usí splňovat Shannon- Kotělnikovův teor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≥ 2*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 telefonní signál je 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= 8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CM 1.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praxi se TDM kombinuje s digitalizací signálu, tomu odpovídá PCM 1.řá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D4690-398A-4482-8D5C-0E97183019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413000"/>
          <a:ext cx="22032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22032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4038480" cy="2810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4797360"/>
            <a:ext cx="1944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nchro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288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288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288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288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6396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396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396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396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33040" y="1989000"/>
            <a:ext cx="1717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7960" y="1989000"/>
            <a:ext cx="1552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DC479-ED26-429F-8B40-F2D2E17516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přenosy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zakódovány" do jediného sp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ého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os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účastník si z tohoto celk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kód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co mu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sluší, pomocí kód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z přenášených signálů používá jiný kód (pseudonásobnou sekvenc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 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ysoká efektivnost vy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í dostupného frekvenčního pásma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02AE-F580-4B37-9FFE-50214F61C4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7:44:08Z</dcterms:created>
  <dc:creator>petr</dc:creator>
  <dc:description/>
  <dc:language>en-US</dc:language>
  <cp:lastModifiedBy>student</cp:lastModifiedBy>
  <dcterms:modified xsi:type="dcterms:W3CDTF">2006-05-23T11:52:58Z</dcterms:modified>
  <cp:revision>34</cp:revision>
  <dc:subject/>
  <dc:title>Multiplexní metody</dc:title>
</cp:coreProperties>
</file>